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A43-C38E-4205-A822-F6AD361F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970-4683-43E8-A54F-5E6B2FAE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867-54E6-4B2E-8814-E444E8E4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121-9FC4-4F6A-A2A2-EFB032F5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2F08C-AF9B-4196-A4E6-43225C98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49901-F8BF-46E4-819D-E1BE362B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6A7D8-B6AF-40E4-BA9E-55271436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B22DC-1175-4902-A8F8-862B0209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DA924-AE6C-44D6-AA1E-40628E0D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A5596-43F0-424B-BB9C-B8710B47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8C056-E2CE-41C7-BB61-AC83B109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909-A623-45BC-A228-4A688CDF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AE4C0-FAC5-4483-8121-2D4E4FB3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576C4-8A2F-4676-8A07-35612857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1B989-C8A4-4311-A373-EEF6A5BF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DD3F5-62D6-45BF-ADAF-4D3F2D25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04EC8-B7A0-47D5-B63E-49263D1B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5F71-E236-440C-B858-384699D9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55A-E08B-4A53-A4E4-1C9A763B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952-36C3-40C2-8471-AEED5B63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3E5-57A0-43B6-B25B-6DB1C47B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165-A353-47E1-800D-204C95E2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3E5-49D4-4886-A9C0-A3BA83A0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BAA-536A-4FCB-85BB-24733D57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7448-BF7B-4428-9FEC-A2106C6CD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C93E-AFB0-4BBA-9835-E4E67CEDE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mystery of Anita’s sunken boat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: Halie, Cheyenne, and K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191120"/>
            <a:ext cx="6095880" cy="1066680"/>
          </a:xfrm>
          <a:custGeom>
            <a:avLst/>
            <a:gdLst>
              <a:gd name="textAreaLeft" fmla="*/ 0 w 6095880"/>
              <a:gd name="textAreaRight" fmla="*/ 6096240 w 60958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3434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4419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used the clay boats to test the hypothesis of why the boats either sank or float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5029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the canoe boat and it sa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819520" y="4114800"/>
            <a:ext cx="685800" cy="9144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724280"/>
            <a:ext cx="1981080" cy="1219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We discovered that boats sink when the walls are really  thick and don’t have a curved in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5486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boat sank because of its sha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486400"/>
            <a:ext cx="17524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800240" y="4495320"/>
            <a:ext cx="304920" cy="838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oat floated because the walls were tall, thin, and the inside was curve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2362320"/>
            <a:ext cx="164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Halie’s experiment to see how much water was displaced by Cheyenne’s bo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562720" y="3580920"/>
            <a:ext cx="1371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64240" y="2157480"/>
            <a:ext cx="2135160" cy="2822400"/>
          </a:xfrm>
          <a:custGeom>
            <a:avLst/>
            <a:gdLst/>
            <a:ahLst/>
            <a:rect l="l" t="t" r="r" b="b"/>
            <a:pathLst>
              <a:path w="1345" h="1778">
                <a:moveTo>
                  <a:pt x="109" y="250"/>
                </a:moveTo>
                <a:cubicBezTo>
                  <a:pt x="100" y="225"/>
                  <a:pt x="83" y="174"/>
                  <a:pt x="83" y="174"/>
                </a:cubicBezTo>
                <a:cubicBezTo>
                  <a:pt x="104" y="40"/>
                  <a:pt x="80" y="69"/>
                  <a:pt x="177" y="39"/>
                </a:cubicBezTo>
                <a:cubicBezTo>
                  <a:pt x="262" y="44"/>
                  <a:pt x="315" y="31"/>
                  <a:pt x="380" y="73"/>
                </a:cubicBezTo>
                <a:cubicBezTo>
                  <a:pt x="391" y="107"/>
                  <a:pt x="410" y="120"/>
                  <a:pt x="439" y="140"/>
                </a:cubicBezTo>
                <a:cubicBezTo>
                  <a:pt x="470" y="137"/>
                  <a:pt x="502" y="141"/>
                  <a:pt x="532" y="132"/>
                </a:cubicBezTo>
                <a:cubicBezTo>
                  <a:pt x="553" y="126"/>
                  <a:pt x="564" y="100"/>
                  <a:pt x="583" y="89"/>
                </a:cubicBezTo>
                <a:cubicBezTo>
                  <a:pt x="630" y="63"/>
                  <a:pt x="683" y="43"/>
                  <a:pt x="727" y="13"/>
                </a:cubicBezTo>
                <a:cubicBezTo>
                  <a:pt x="752" y="16"/>
                  <a:pt x="791" y="0"/>
                  <a:pt x="803" y="22"/>
                </a:cubicBezTo>
                <a:cubicBezTo>
                  <a:pt x="832" y="75"/>
                  <a:pt x="778" y="168"/>
                  <a:pt x="829" y="200"/>
                </a:cubicBezTo>
                <a:cubicBezTo>
                  <a:pt x="898" y="243"/>
                  <a:pt x="992" y="194"/>
                  <a:pt x="1074" y="191"/>
                </a:cubicBezTo>
                <a:cubicBezTo>
                  <a:pt x="1108" y="183"/>
                  <a:pt x="1130" y="177"/>
                  <a:pt x="1159" y="157"/>
                </a:cubicBezTo>
                <a:cubicBezTo>
                  <a:pt x="1193" y="160"/>
                  <a:pt x="1242" y="137"/>
                  <a:pt x="1261" y="166"/>
                </a:cubicBezTo>
                <a:cubicBezTo>
                  <a:pt x="1290" y="211"/>
                  <a:pt x="1266" y="273"/>
                  <a:pt x="1269" y="327"/>
                </a:cubicBezTo>
                <a:cubicBezTo>
                  <a:pt x="1274" y="406"/>
                  <a:pt x="1279" y="455"/>
                  <a:pt x="1286" y="530"/>
                </a:cubicBezTo>
                <a:cubicBezTo>
                  <a:pt x="1283" y="555"/>
                  <a:pt x="1297" y="590"/>
                  <a:pt x="1278" y="606"/>
                </a:cubicBezTo>
                <a:cubicBezTo>
                  <a:pt x="1254" y="626"/>
                  <a:pt x="1195" y="585"/>
                  <a:pt x="1185" y="615"/>
                </a:cubicBezTo>
                <a:cubicBezTo>
                  <a:pt x="1159" y="692"/>
                  <a:pt x="1190" y="778"/>
                  <a:pt x="1193" y="860"/>
                </a:cubicBezTo>
                <a:cubicBezTo>
                  <a:pt x="1218" y="857"/>
                  <a:pt x="1244" y="857"/>
                  <a:pt x="1269" y="852"/>
                </a:cubicBezTo>
                <a:cubicBezTo>
                  <a:pt x="1287" y="849"/>
                  <a:pt x="1320" y="835"/>
                  <a:pt x="1320" y="835"/>
                </a:cubicBezTo>
                <a:cubicBezTo>
                  <a:pt x="1328" y="846"/>
                  <a:pt x="1345" y="855"/>
                  <a:pt x="1345" y="869"/>
                </a:cubicBezTo>
                <a:cubicBezTo>
                  <a:pt x="1345" y="993"/>
                  <a:pt x="1338" y="1118"/>
                  <a:pt x="1320" y="1241"/>
                </a:cubicBezTo>
                <a:cubicBezTo>
                  <a:pt x="1318" y="1254"/>
                  <a:pt x="1261" y="1293"/>
                  <a:pt x="1252" y="1301"/>
                </a:cubicBezTo>
                <a:cubicBezTo>
                  <a:pt x="1215" y="1333"/>
                  <a:pt x="1182" y="1357"/>
                  <a:pt x="1159" y="1402"/>
                </a:cubicBezTo>
                <a:cubicBezTo>
                  <a:pt x="1147" y="1495"/>
                  <a:pt x="1155" y="1589"/>
                  <a:pt x="1142" y="1682"/>
                </a:cubicBezTo>
                <a:cubicBezTo>
                  <a:pt x="1142" y="1685"/>
                  <a:pt x="1084" y="1719"/>
                  <a:pt x="1074" y="1724"/>
                </a:cubicBezTo>
                <a:cubicBezTo>
                  <a:pt x="1017" y="1752"/>
                  <a:pt x="950" y="1760"/>
                  <a:pt x="888" y="1775"/>
                </a:cubicBezTo>
                <a:cubicBezTo>
                  <a:pt x="741" y="1772"/>
                  <a:pt x="594" y="1778"/>
                  <a:pt x="448" y="1767"/>
                </a:cubicBezTo>
                <a:cubicBezTo>
                  <a:pt x="437" y="1766"/>
                  <a:pt x="400" y="1711"/>
                  <a:pt x="397" y="1707"/>
                </a:cubicBezTo>
                <a:cubicBezTo>
                  <a:pt x="381" y="1689"/>
                  <a:pt x="363" y="1674"/>
                  <a:pt x="346" y="1657"/>
                </a:cubicBezTo>
                <a:cubicBezTo>
                  <a:pt x="313" y="1625"/>
                  <a:pt x="306" y="1580"/>
                  <a:pt x="278" y="1546"/>
                </a:cubicBezTo>
                <a:cubicBezTo>
                  <a:pt x="262" y="1527"/>
                  <a:pt x="241" y="1526"/>
                  <a:pt x="219" y="1521"/>
                </a:cubicBezTo>
                <a:cubicBezTo>
                  <a:pt x="166" y="1442"/>
                  <a:pt x="197" y="1371"/>
                  <a:pt x="202" y="1267"/>
                </a:cubicBezTo>
                <a:cubicBezTo>
                  <a:pt x="199" y="1210"/>
                  <a:pt x="205" y="1152"/>
                  <a:pt x="193" y="1097"/>
                </a:cubicBezTo>
                <a:cubicBezTo>
                  <a:pt x="190" y="1084"/>
                  <a:pt x="171" y="1080"/>
                  <a:pt x="160" y="1072"/>
                </a:cubicBezTo>
                <a:cubicBezTo>
                  <a:pt x="126" y="1048"/>
                  <a:pt x="104" y="1008"/>
                  <a:pt x="66" y="996"/>
                </a:cubicBezTo>
                <a:cubicBezTo>
                  <a:pt x="18" y="922"/>
                  <a:pt x="0" y="844"/>
                  <a:pt x="58" y="759"/>
                </a:cubicBezTo>
                <a:cubicBezTo>
                  <a:pt x="69" y="724"/>
                  <a:pt x="88" y="688"/>
                  <a:pt x="109" y="657"/>
                </a:cubicBezTo>
                <a:cubicBezTo>
                  <a:pt x="125" y="606"/>
                  <a:pt x="126" y="615"/>
                  <a:pt x="109" y="530"/>
                </a:cubicBezTo>
                <a:cubicBezTo>
                  <a:pt x="107" y="520"/>
                  <a:pt x="92" y="515"/>
                  <a:pt x="92" y="505"/>
                </a:cubicBezTo>
                <a:cubicBezTo>
                  <a:pt x="87" y="381"/>
                  <a:pt x="92" y="256"/>
                  <a:pt x="92" y="1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conducted this experiment by finding the mass of the displaced water from the sunken and floating boa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5257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crazy shaped bo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5181480"/>
            <a:ext cx="259056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362320" y="3962520"/>
            <a:ext cx="14475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3320" y="357120"/>
            <a:ext cx="7677360" cy="6143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086600" y="2590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0e8c"/>
                </a:solidFill>
                <a:latin typeface="Arial"/>
                <a:ea typeface="Arial"/>
              </a:rPr>
              <a:t>Blue- Boat Flo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r Graph abo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graphed our information from our table.  The average amount of water displaced from the sunken boat was 6.23g.  The average for the floating boat was 10.74g of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ta’s boat sank because of the buoyancy, the shape, the mass, the density, and the volume of the boat caused Anita’s boat to sin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3:22:53Z</dcterms:created>
  <dc:creator>claguna</dc:creator>
  <dc:description/>
  <dc:language>en-US</dc:language>
  <cp:lastModifiedBy>claguna</cp:lastModifiedBy>
  <dcterms:modified xsi:type="dcterms:W3CDTF">2007-10-26T12:38:39Z</dcterms:modified>
  <cp:revision>7</cp:revision>
  <dc:subject/>
  <dc:title>Slide 1</dc:title>
</cp:coreProperties>
</file>